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44E-CBED-4AB8-804E-27321237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586-3D92-4D05-AF67-F04E6A3B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4D3-D5B0-4188-84B1-74F2FE30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357-858A-4EC3-A39D-B3BA7750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678-22F2-4D02-B42B-74A3974E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872F-FE97-4F0B-B7AD-9FD801D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D7DE-AF94-43A6-805D-D3AA117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84DF-5517-4189-A5E7-E206C014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3AA4-1203-4919-99BB-1071DB8C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4120" y="609120"/>
            <a:ext cx="717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705C-668C-45B5-A918-DBE7D6E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9135-B533-4EB1-8D07-5080D11F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5F5-FE00-477A-A323-DC72C7A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AD3-AD5C-4DE2-ACD0-1D58C277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E09-06DC-4A5E-9B22-4BEBEEB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BE58-1BCE-4C51-B1C6-5D08E964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44A6-F862-41BC-8CE0-E0C4B55C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529E-12C8-445F-8EE3-4961B072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C81-F180-4F6D-87D6-7A598B35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987-8D5B-41CC-9F51-88A310C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F03-36F8-43BD-9A55-99D54031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4120" y="609120"/>
            <a:ext cx="7174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94C-C717-45FE-AAD8-2C1243D9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47E-ECEB-464E-AC39-A5846E4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E1C-C65B-4CA0-A16A-458A8E4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F50-9616-48C5-BBEB-704290F0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4120" y="60912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909360" y="631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40040"/>
            <a:ext cx="3429000" cy="3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Shamkant B. Nava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852960" y="6129360"/>
            <a:ext cx="190476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6FE7832D-1626-448C-8AD4-4BBD89582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2440" y="6440400"/>
            <a:ext cx="849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50556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Shamkant B. Nava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165D-068A-4015-88C4-3B7B1CC0C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9720" y="63705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0520" y="1436760"/>
            <a:ext cx="7772400" cy="34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ENTITY–RELATIONSHIP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DEL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TENSIONS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(based on Ch. 3 and 4 in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Fundamentals of Database Systems by Elmasri and Navathe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ENTITY TYPE CAR WITH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TTRIBU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8120" y="2324160"/>
            <a:ext cx="8267760" cy="3314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ABC 123, TEXAS), TK629, Ford Mustang, convertible, 1989, (red, black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ABC 123, NEW YORK), WP9872, Nissan Sentra, 2-door, 1992, (blue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(VSY 720, TEXAS), TD729, Chrysler LeBaron, 4-door, 1993, (white, blue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4200" y="1523880"/>
            <a:ext cx="8916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A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Registration(RegistrationNumber, State), VehicleID, Make, Model, Year, (Color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6800" y="612792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7B2-109E-4886-A49A-E0EDB9EDD1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8560" y="206280"/>
            <a:ext cx="84978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Relationships and Relationship Typ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00" y="995400"/>
            <a:ext cx="836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onship relates two or more distinct entities with a specific meaning; for example, EMPLOYEE John Smith works on the ProductX PROJECT or EMPLOYEE Franklin Wong manages the Research DEPART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 of the same type are grouped or typed into a relationship type. For example, the WORKS_ON relationship type in which EMPLOYEEs and PROJECTs participate, or the MANAGES relationship type in which EMPLOYEEs and DEPARTMENTs particip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gree of a relationship type is the number of participating entity types. Both MANAGES and WORKS_ON are binary relationsh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than one relationship type can exist with the same participating entity types; for examples, MANAGES and WORKS_FOR are distinct relationships between EMPLOYEE and DEPARTMENT particip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96E-A3EC-4BD8-8BF3-179A2BAAF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ak Entity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10825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ntity that does not have a key 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eak entity must participate in an identifying relationship type with an owner or identifying entity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ties are identified by the combination o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artial key of the weak entity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articular entity they are related to in the identifying entity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se that a DEPENDENT entity is identified by the dependent’s first name and birhtdate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pecific EMPLOYEE that the dependent is related to.  DEPENDENT is a weak entity type with EMPLOYEE as its identifying entity type via the identifying relationship type DEPENDEN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480-C077-4F67-95B5-070E489798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1600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R Model and Data Abstr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Iden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eneralization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R Model Con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ity Type- a grouping of member ent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lationship Type - a grouping of member relat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lationship 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 aggregation of (over) its participating entity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????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6C0-6C62-41DD-83C0-974F8B64DB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straints on Aggreg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nality Constraints on Relationship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Also known as ratio constraint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-to-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-to-m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-to-m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Cardinality (also called participation or existence dependency constra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ero (optional participation, not existence-depend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 or more (mandatory, existence-depend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66A-D456-4AA6-9458-7566EA5243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3840" y="168120"/>
            <a:ext cx="8248680" cy="102096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ne-to-many(1:N) or Many-to-one (N:1) RELATIONSHIP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81560" y="2004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81560" y="25956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81560" y="3166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81560" y="37576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43290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81560" y="4919760"/>
            <a:ext cx="20952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81560" y="5491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560" y="1503360"/>
            <a:ext cx="1943280" cy="398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440" y="101124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503360"/>
            <a:ext cx="194292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65000" y="101124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1503360"/>
            <a:ext cx="1943280" cy="398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17360" y="101124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523880" y="2093760"/>
            <a:ext cx="29718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523880" y="2722320"/>
            <a:ext cx="29149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42960" y="3274920"/>
            <a:ext cx="285768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2960" y="3789360"/>
            <a:ext cx="291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2960" y="4265640"/>
            <a:ext cx="2876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4761000"/>
            <a:ext cx="29340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2960" y="5275440"/>
            <a:ext cx="2895840" cy="32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2920" y="2093760"/>
            <a:ext cx="28954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703600"/>
            <a:ext cx="28386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552920" y="2322360"/>
            <a:ext cx="2857680" cy="9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91080" y="3255480"/>
            <a:ext cx="2800440" cy="59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552920" y="4151160"/>
            <a:ext cx="28195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52920" y="4151160"/>
            <a:ext cx="2838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2304720"/>
            <a:ext cx="2838600" cy="26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C7B-30F9-4FB1-B474-21AD4862B4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000" y="85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ANY-TO-MANY(M:N)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LATIONSHIP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822320"/>
            <a:ext cx="80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9960" y="1486080"/>
            <a:ext cx="1943280" cy="39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1486080"/>
            <a:ext cx="194292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1486080"/>
            <a:ext cx="1943280" cy="39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81560" y="2004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81560" y="25956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81560" y="3166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1560" y="37576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81560" y="43290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81560" y="49910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5491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076480"/>
            <a:ext cx="29718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23880" y="2705040"/>
            <a:ext cx="291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542960" y="3257640"/>
            <a:ext cx="285768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2960" y="3772080"/>
            <a:ext cx="29149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42960" y="4248000"/>
            <a:ext cx="2876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4743360"/>
            <a:ext cx="2934000" cy="24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42960" y="5257800"/>
            <a:ext cx="2895840" cy="3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2920" y="2076480"/>
            <a:ext cx="28954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685960"/>
            <a:ext cx="28386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52920" y="2305080"/>
            <a:ext cx="2857680" cy="9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591080" y="3238560"/>
            <a:ext cx="2800440" cy="59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552920" y="4133880"/>
            <a:ext cx="28195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52920" y="4133880"/>
            <a:ext cx="2838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304720"/>
            <a:ext cx="2838600" cy="26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2781360"/>
            <a:ext cx="2895840" cy="307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91080" y="43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00640" y="5853240"/>
            <a:ext cx="20952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72000" y="4133880"/>
            <a:ext cx="2838600" cy="171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9240" y="558180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81560" y="1724040"/>
            <a:ext cx="44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89240" y="152388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154296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504800" y="1724040"/>
            <a:ext cx="2876760" cy="3533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542960"/>
            <a:ext cx="28004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352-E1AD-4A80-A500-BDB2A06EEE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2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tructural Constraints –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ne way to express semantic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f relationship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7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uctural constraints on relationship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dinality rat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f a binary relationship): 1:1, 1:N, N:1, or M: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WN BY PLACING APPROPRIATE NUMBER ON THE LIN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cipation constra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n each participating entity type): total (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istence dependenc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r part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WN BY DOUBLE LINING THE 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These are easy to specif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 Binary Relationshi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y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Do not be misled by obscure notations to specify above constraints for higher order 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2D5-E53C-4E52-AEA4-93FF292E8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81040" y="272520"/>
            <a:ext cx="8423280" cy="8398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cc66"/>
                </a:solidFill>
                <a:uFillTx/>
                <a:latin typeface="Arial"/>
              </a:rPr>
              <a:t>Alternative (min, max) notation for relationship structural constraints:</a:t>
            </a:r>
            <a:endParaRPr b="0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57240" y="1085400"/>
            <a:ext cx="9144000" cy="548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pecified on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each participation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of an entity type E in a relationship type 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pecifies that each entity e in E participates in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t least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min and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t most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max relationship instances in 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efault(no constraint): min=0, max=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Must have min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max, min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0, max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erived from the knowledge of mini-world constrain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Times New Roman"/>
              </a:rPr>
              <a:t>Examples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 department has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exactly one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manager and an employee can manage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t most one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department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0,1) for participation of EMPLOYEE in MANAG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1,1) for participation of DEPARTMENT in MANAG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228600">
              <a:spcBef>
                <a:spcPts val="264"/>
              </a:spcBef>
              <a:spcAft>
                <a:spcPts val="264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n employee can work for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exactly one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department but a department can have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</a:rPr>
              <a:t>any number of employees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1,1) for participation of EMPLOYEE in WORKS_F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285840">
              <a:spcBef>
                <a:spcPts val="238"/>
              </a:spcBef>
              <a:spcAft>
                <a:spcPts val="238"/>
              </a:spcAft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pecify (0,n) for participation of DEPARTMENT in WORKS_F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C5D-CFA6-453D-98B5-F25A8911B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0080" y="75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(min,max) notation for higher order relationship type constrai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040" y="2478240"/>
            <a:ext cx="21636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56240" y="2478240"/>
            <a:ext cx="2001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12760" y="2666880"/>
            <a:ext cx="124956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88240" y="2754360"/>
            <a:ext cx="12351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3836880" y="2363760"/>
            <a:ext cx="1527120" cy="1306440"/>
          </a:xfrm>
          <a:prstGeom prst="diamond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176720" y="277812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2825640" y="2990880"/>
            <a:ext cx="105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2990880"/>
            <a:ext cx="10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41400" y="5392800"/>
            <a:ext cx="727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does it mean to put m:n:p on the three arms of the relationship? It is essentially meaningless. The (min,max) notation “looking away” from the entity is the best to u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38960" y="253368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70080" y="247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7360" y="4287960"/>
            <a:ext cx="21636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86480" y="4270320"/>
            <a:ext cx="2001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08080" y="4476600"/>
            <a:ext cx="124920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918480" y="4546440"/>
            <a:ext cx="1234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3867120" y="4173480"/>
            <a:ext cx="1527120" cy="1306440"/>
          </a:xfrm>
          <a:prstGeom prst="diamond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89320" y="462276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ks-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2855880" y="4800600"/>
            <a:ext cx="105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46800" y="4800600"/>
            <a:ext cx="10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16640" y="43434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83040" y="4287960"/>
            <a:ext cx="10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ata Modeling Using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ER Model and its extens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8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 Diagrams-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Database Application (COMPA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 Model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ities and Attrib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ity Types, Value Sets, and Key Attrib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onships and Relationship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ak Entity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les and Attributes in Relationship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 of Higher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ed Entity-Relationship (EER)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is based 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. Elmasri and S.B. Navathe, “ Fundamentals of Database Systems,” Ed. 3., Addison Wesley, 2000, Chapters 3.4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CA0-81AA-47BE-8010-E991F618E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1896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lationships of Higher Degre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2158920"/>
            <a:ext cx="86868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types of degree 2 are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types of degree 3 are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r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of degree n are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-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, an n-ary relationship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no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valent to n binary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0DB-83F2-40E7-A9F7-9E8A16ABE4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TERNARY RELATIONSHIP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6800" y="62164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ch04_13" descr=""/>
          <p:cNvPicPr/>
          <p:nvPr/>
        </p:nvPicPr>
        <p:blipFill>
          <a:blip r:embed="rId1"/>
          <a:stretch/>
        </p:blipFill>
        <p:spPr>
          <a:xfrm>
            <a:off x="2467080" y="696960"/>
            <a:ext cx="4124160" cy="55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61B-D8AD-4F76-8245-F91E247F8D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108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TERNARY VS. BINARY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RELATIONSHIP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6800" y="61642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ch04_14" descr=""/>
          <p:cNvPicPr/>
          <p:nvPr/>
        </p:nvPicPr>
        <p:blipFill>
          <a:blip r:embed="rId1"/>
          <a:stretch/>
        </p:blipFill>
        <p:spPr>
          <a:xfrm>
            <a:off x="966960" y="1609560"/>
            <a:ext cx="7210080" cy="363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64D-83C7-4DF7-9FD3-169D61041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7920" y="61560"/>
            <a:ext cx="9144000" cy="102096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TERNARY RELATIONSHIP-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stance Diagr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3920" y="1447920"/>
            <a:ext cx="933480" cy="1912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8480" y="993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3920" y="4248000"/>
            <a:ext cx="933480" cy="1913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0960" y="37940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95760" y="1486080"/>
            <a:ext cx="194292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10760" y="99360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004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5956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166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7576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43290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919760"/>
            <a:ext cx="20952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5491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29280" y="1486080"/>
            <a:ext cx="1581480" cy="3238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91200" y="9936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67000" y="1981080"/>
            <a:ext cx="31431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67000" y="1962000"/>
            <a:ext cx="3143160" cy="70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962000"/>
            <a:ext cx="3143160" cy="127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6080" y="2438280"/>
            <a:ext cx="3124080" cy="1409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67000" y="2438280"/>
            <a:ext cx="312408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7000" y="2438280"/>
            <a:ext cx="3124080" cy="2571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438280"/>
            <a:ext cx="3162240" cy="314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467000" y="2076120"/>
            <a:ext cx="3124080" cy="26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486080" y="2666880"/>
            <a:ext cx="3124080" cy="20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86080" y="3828600"/>
            <a:ext cx="3124080" cy="9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486080" y="4419720"/>
            <a:ext cx="3143160" cy="34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486080" y="3257280"/>
            <a:ext cx="314316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467000" y="4991040"/>
            <a:ext cx="3162240" cy="74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486080" y="5562360"/>
            <a:ext cx="31622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81520" y="2095560"/>
            <a:ext cx="283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762440" y="2171520"/>
            <a:ext cx="287676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762440" y="2209320"/>
            <a:ext cx="2838600" cy="163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724280" y="2685960"/>
            <a:ext cx="289584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62080" y="3105000"/>
            <a:ext cx="287676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762080" y="4000680"/>
            <a:ext cx="287676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743360" y="4019400"/>
            <a:ext cx="2895840" cy="156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53D-C7F8-4EE4-931B-0B6894456B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47880" y="11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blem with constraints on higher order relationship typ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2040" y="2478240"/>
            <a:ext cx="21636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27360" y="4565520"/>
            <a:ext cx="173664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38840" y="2666880"/>
            <a:ext cx="113508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77840" y="2666880"/>
            <a:ext cx="124956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pli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925960" y="2925720"/>
            <a:ext cx="9144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09960" y="4844880"/>
            <a:ext cx="12114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627360" y="2820960"/>
            <a:ext cx="1527120" cy="1306440"/>
          </a:xfrm>
          <a:prstGeom prst="diamond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67200" y="323208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pl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2825640" y="2820960"/>
            <a:ext cx="13813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794120" y="3106800"/>
            <a:ext cx="1044720" cy="5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94120" y="3811680"/>
            <a:ext cx="0" cy="75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040" y="5479920"/>
            <a:ext cx="72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es it mean to put m:n:p on the three arms of the relationship ? It is essentially meaningl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33600" y="247824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26496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1880" y="38116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1120" y="67284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(min,max) notation for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gher order relationship type constrai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41400" y="2192400"/>
            <a:ext cx="21636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59080" y="4280040"/>
            <a:ext cx="17370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18200" y="23814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61960" y="2381400"/>
            <a:ext cx="124956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ac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18200" y="2535120"/>
            <a:ext cx="9144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r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486320" y="4565520"/>
            <a:ext cx="12110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ud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3906720" y="2535120"/>
            <a:ext cx="1527120" cy="1306800"/>
          </a:xfrm>
          <a:prstGeom prst="diamond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159080" y="2876400"/>
            <a:ext cx="9144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fer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0" name=""/>
          <p:cNvSpPr/>
          <p:nvPr/>
        </p:nvSpPr>
        <p:spPr>
          <a:xfrm>
            <a:off x="3105000" y="2419200"/>
            <a:ext cx="13813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073480" y="2820960"/>
            <a:ext cx="1044720" cy="5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73480" y="3525840"/>
            <a:ext cx="0" cy="7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41400" y="5423040"/>
            <a:ext cx="72756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eacher can offer min 1 and max 2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ourse may have 1 to 3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tudent may enroll in from 1 to 5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73480" y="35258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73480" y="24192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11360" y="20779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,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V="1">
            <a:off x="3728880" y="2247480"/>
            <a:ext cx="2843280" cy="125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480" y="110880"/>
            <a:ext cx="882180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RECURSIVE RELATIONSHIP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SUPERVISION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1486080"/>
            <a:ext cx="1943280" cy="39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2880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65120" y="99360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76840" y="1486080"/>
            <a:ext cx="1943280" cy="472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200400" anchor="t">
            <a:no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6880" y="993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53080" y="20620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3080" y="274788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33908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406224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471492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5419800"/>
            <a:ext cx="2095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14600"/>
            <a:ext cx="2646360" cy="24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37240" y="2093760"/>
            <a:ext cx="1834920" cy="5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23680" y="1900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6440" y="2057400"/>
            <a:ext cx="1979640" cy="32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61840" y="2185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18160" y="2417760"/>
            <a:ext cx="1892160" cy="41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00480" y="2057400"/>
            <a:ext cx="2358720" cy="7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46240" y="268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9720" y="2955960"/>
            <a:ext cx="1541520" cy="5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95960" y="2743200"/>
            <a:ext cx="1332000" cy="9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52600" y="25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51240" y="2017800"/>
            <a:ext cx="198756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00480" y="3009960"/>
            <a:ext cx="16380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86160" y="3200400"/>
            <a:ext cx="22669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76440" y="3505320"/>
            <a:ext cx="2133720" cy="34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15080" y="3900600"/>
            <a:ext cx="1809720" cy="29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12680" y="36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19200" y="3524400"/>
            <a:ext cx="2381400" cy="74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33880" y="4352760"/>
            <a:ext cx="1557360" cy="4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65320" y="409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3524400"/>
            <a:ext cx="2533680" cy="122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2480" y="4857840"/>
            <a:ext cx="134784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55760" y="462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457360" y="3619440"/>
            <a:ext cx="990720" cy="3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50600" y="335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22280" y="2989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19200" y="3981600"/>
            <a:ext cx="2762280" cy="12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2280" y="4097160"/>
            <a:ext cx="1238040" cy="7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25680" y="390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19200" y="4476600"/>
            <a:ext cx="1543320" cy="12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4640400"/>
            <a:ext cx="2343240" cy="19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5040" y="4417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4991040"/>
            <a:ext cx="2800440" cy="36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1480" y="5378400"/>
            <a:ext cx="1139760" cy="14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03440" y="514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6800" y="62164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78B-F4DA-49EE-A4C1-AFE0C8DEBB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91640" y="20592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les played by Entity Types in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Relationship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36600" y="1554120"/>
            <a:ext cx="846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recursive relationship two entities of the same entity type are related; for example, a SUPERVISION relationship type relates one EMPLOYEE (in the role of supervisee) to another EMPLOYEE (in the role of superviso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ly, the same entity type may play different roles in different relationships. E.g., Employee plays the r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RIBUTES OF RELATIONSHIP TYP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type can have attributes; for example, HoursPerWeek of WORKS_ON; its value for each relationship instance describes the number of hours per week that an EMPLOYEE works on a PRO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E70-DD1B-4823-AD21-F32C46AC5A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ER DIAGRAM WITH ROLE NAMES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AND MINI-MAX CONSTRAINT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88" name="ch03_15" descr=""/>
          <p:cNvPicPr/>
          <p:nvPr/>
        </p:nvPicPr>
        <p:blipFill>
          <a:blip r:embed="rId1"/>
          <a:stretch/>
        </p:blipFill>
        <p:spPr>
          <a:xfrm>
            <a:off x="1135080" y="1420920"/>
            <a:ext cx="6815160" cy="48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19D-615C-4906-B1CE-8A5AC47843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ata Modeling Too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umber of popular tools that cover conceptual modeling and mapping into relational schema design. Examples: ERWin, S- Designer (Enterprise Application Suite), ER- Studio, 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S: serves as documentation of application requirements, easy user interface - mostly graphics editor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2C0-C27B-4D0E-9999-E55CBB7EA2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60120"/>
            <a:ext cx="90676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SUMMARY OF ER-DIAGRAM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NOTATION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6480" y="955440"/>
            <a:ext cx="44193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ITY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AK ENTITY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ING RELATIONSHIP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VALUED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OSITE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IVED ATTRIB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PARTICIPATION OF E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IN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DINALITY RATIO 1:N FOR E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E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AL CONSTRAINT (min, max) ON PARTICIPATION OF E IN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29880" y="955800"/>
            <a:ext cx="65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0800" y="1293840"/>
            <a:ext cx="901800" cy="31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76520" y="1725480"/>
            <a:ext cx="990360" cy="399960"/>
            <a:chOff x="2576520" y="1725480"/>
            <a:chExt cx="990360" cy="399960"/>
          </a:xfrm>
        </p:grpSpPr>
        <p:sp>
          <p:nvSpPr>
            <p:cNvPr id="92" name=""/>
            <p:cNvSpPr/>
            <p:nvPr/>
          </p:nvSpPr>
          <p:spPr>
            <a:xfrm>
              <a:off x="2614320" y="1760400"/>
              <a:ext cx="914400" cy="320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76520" y="1725480"/>
              <a:ext cx="990360" cy="399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2722800">
            <a:off x="2892240" y="2246040"/>
            <a:ext cx="253800" cy="25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792520" y="2584800"/>
            <a:ext cx="453600" cy="453600"/>
            <a:chOff x="2792520" y="2584800"/>
            <a:chExt cx="453600" cy="453600"/>
          </a:xfrm>
        </p:grpSpPr>
        <p:sp>
          <p:nvSpPr>
            <p:cNvPr id="96" name=""/>
            <p:cNvSpPr/>
            <p:nvPr/>
          </p:nvSpPr>
          <p:spPr>
            <a:xfrm rot="2722800">
              <a:off x="2892240" y="2692080"/>
              <a:ext cx="254160" cy="254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22800">
              <a:off x="2858760" y="2651040"/>
              <a:ext cx="320760" cy="320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31720" y="3135240"/>
            <a:ext cx="1143360" cy="211320"/>
            <a:chOff x="2331720" y="3135240"/>
            <a:chExt cx="1143360" cy="211320"/>
          </a:xfrm>
        </p:grpSpPr>
        <p:sp>
          <p:nvSpPr>
            <p:cNvPr id="99" name=""/>
            <p:cNvSpPr/>
            <p:nvPr/>
          </p:nvSpPr>
          <p:spPr>
            <a:xfrm>
              <a:off x="2729160" y="3135240"/>
              <a:ext cx="745920" cy="211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331720" y="3241800"/>
              <a:ext cx="39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31720" y="3511440"/>
            <a:ext cx="1143360" cy="210960"/>
            <a:chOff x="2331720" y="3511440"/>
            <a:chExt cx="1143360" cy="210960"/>
          </a:xfrm>
        </p:grpSpPr>
        <p:grpSp>
          <p:nvGrpSpPr>
            <p:cNvPr id="102" name=""/>
            <p:cNvGrpSpPr/>
            <p:nvPr/>
          </p:nvGrpSpPr>
          <p:grpSpPr>
            <a:xfrm>
              <a:off x="2331720" y="3511440"/>
              <a:ext cx="1143360" cy="210960"/>
              <a:chOff x="2331720" y="3511440"/>
              <a:chExt cx="1143360" cy="210960"/>
            </a:xfrm>
          </p:grpSpPr>
          <p:sp>
            <p:nvSpPr>
              <p:cNvPr id="103" name=""/>
              <p:cNvSpPr/>
              <p:nvPr/>
            </p:nvSpPr>
            <p:spPr>
              <a:xfrm>
                <a:off x="2729160" y="351144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331720" y="3617640"/>
                <a:ext cx="39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881440" y="3659040"/>
              <a:ext cx="42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332080" y="3895560"/>
            <a:ext cx="1248840" cy="273240"/>
            <a:chOff x="2332080" y="3895560"/>
            <a:chExt cx="1248840" cy="273240"/>
          </a:xfrm>
        </p:grpSpPr>
        <p:sp>
          <p:nvSpPr>
            <p:cNvPr id="107" name=""/>
            <p:cNvSpPr/>
            <p:nvPr/>
          </p:nvSpPr>
          <p:spPr>
            <a:xfrm>
              <a:off x="2728800" y="3922560"/>
              <a:ext cx="745560" cy="211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332080" y="4028760"/>
              <a:ext cx="39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22240" y="3895560"/>
              <a:ext cx="958680" cy="273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331720" y="4765680"/>
            <a:ext cx="1143360" cy="210960"/>
            <a:chOff x="2331720" y="4765680"/>
            <a:chExt cx="1143360" cy="210960"/>
          </a:xfrm>
        </p:grpSpPr>
        <p:sp>
          <p:nvSpPr>
            <p:cNvPr id="111" name=""/>
            <p:cNvSpPr/>
            <p:nvPr/>
          </p:nvSpPr>
          <p:spPr>
            <a:xfrm>
              <a:off x="2729160" y="476568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331720" y="4871880"/>
              <a:ext cx="3970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38080" y="5191200"/>
            <a:ext cx="1143000" cy="241200"/>
            <a:chOff x="838080" y="5191200"/>
            <a:chExt cx="1143000" cy="241200"/>
          </a:xfrm>
        </p:grpSpPr>
        <p:sp>
          <p:nvSpPr>
            <p:cNvPr id="114" name=""/>
            <p:cNvSpPr/>
            <p:nvPr/>
          </p:nvSpPr>
          <p:spPr>
            <a:xfrm>
              <a:off x="838080" y="5191200"/>
              <a:ext cx="639720" cy="241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94000" y="5317920"/>
              <a:ext cx="48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73160" y="5184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52520" y="5284800"/>
            <a:ext cx="1176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2480" y="5330880"/>
            <a:ext cx="113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191200"/>
            <a:ext cx="639720" cy="24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5616720"/>
            <a:ext cx="639720" cy="24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4000" y="5743440"/>
            <a:ext cx="48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722800">
            <a:off x="2037960" y="5614920"/>
            <a:ext cx="25416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33280" y="5611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5746680"/>
            <a:ext cx="73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6980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5627520"/>
            <a:ext cx="639720" cy="24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94000" y="6219720"/>
            <a:ext cx="48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722800">
            <a:off x="2037960" y="6091200"/>
            <a:ext cx="25416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33280" y="6087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222960"/>
            <a:ext cx="73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8880" y="599760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in,ma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94200" y="6103800"/>
            <a:ext cx="639720" cy="24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552760" y="4280040"/>
            <a:ext cx="990360" cy="345600"/>
            <a:chOff x="2552760" y="4280040"/>
            <a:chExt cx="990360" cy="345600"/>
          </a:xfrm>
        </p:grpSpPr>
        <p:sp>
          <p:nvSpPr>
            <p:cNvPr id="134" name=""/>
            <p:cNvSpPr/>
            <p:nvPr/>
          </p:nvSpPr>
          <p:spPr>
            <a:xfrm>
              <a:off x="255276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7964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0552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8640" y="4487400"/>
              <a:ext cx="237600" cy="138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770200" y="4556880"/>
              <a:ext cx="21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90360" y="4368960"/>
              <a:ext cx="21780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8360" y="4409280"/>
              <a:ext cx="69120" cy="8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206520" y="4418280"/>
              <a:ext cx="187920" cy="10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47120" y="4349160"/>
              <a:ext cx="14832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26980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722800">
            <a:off x="1998360" y="5189400"/>
            <a:ext cx="254160" cy="25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5FD-60B7-4EE3-9212-9506FC77BA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ith Current Modeling Too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1342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conceptual meaningful no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void the problem of layout algorithms and aesthetics of diagrams, they prefer boxes and lines and do nothing more than represent (primary-foreign key) relationships among resulting tables.(a few excep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OL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built-in methodology sup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tradeoff analysis or user-driven design pre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design verification and suggestions for improv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594-166D-46C2-9DB2-5FA9967697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412920" y="942840"/>
          <a:ext cx="8480160" cy="5421240"/>
        </p:xfrm>
        <a:graphic>
          <a:graphicData uri="http://schemas.openxmlformats.org/drawingml/2006/table">
            <a:tbl>
              <a:tblPr/>
              <a:tblGrid>
                <a:gridCol w="1666800"/>
                <a:gridCol w="2403360"/>
                <a:gridCol w="441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TIONAL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barcadero Technolog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R Stu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base Modeling in ER and IDEF1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B Artis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base administration and space and security manag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a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er 2000 and Designer 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base modeling, application develop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kin Softw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stem Architect 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modeling, object modeling, process modeling, structured analysis/desig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tinum Technol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tinum Enterprice Modeling Suite: Erwin, BPWin, Paradigm Pl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, process, and business component model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istence In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werti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ping from O-O to relational mod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ional Ro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ling in UML and application generation in C++ and JA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gue W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W Me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pping from O-O to relational mod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olution Lt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c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ceptual modeling up to code mainten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b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terprise Application Su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modeling, business logic model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s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sio Enterpri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modeling, design and reengineering Visual Basic and Visual C+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1281240" y="-34920"/>
            <a:ext cx="72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of the Currently Available Automated 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gn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6960" y="-44640"/>
            <a:ext cx="82900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ER DIAGRAM FOR A BANK </a:t>
            </a:r>
            <a:br>
              <a:rPr sz="3300"/>
            </a:br>
            <a:r>
              <a:rPr b="1" lang="en-US" sz="3300" spc="-1" strike="noStrike">
                <a:solidFill>
                  <a:srgbClr val="ffcc66"/>
                </a:solidFill>
                <a:latin typeface="Arial"/>
              </a:rPr>
              <a:t>DATABASE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56800" y="612792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ch03_17" descr=""/>
          <p:cNvPicPr/>
          <p:nvPr/>
        </p:nvPicPr>
        <p:blipFill>
          <a:blip r:embed="rId1"/>
          <a:stretch/>
        </p:blipFill>
        <p:spPr>
          <a:xfrm>
            <a:off x="1022400" y="1208160"/>
            <a:ext cx="707688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D36-4BED-4D79-B2F3-6EC43C7940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2960" y="13644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 with ER no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TITY RELATIONSHIP MODEL IN ITS ORIGINAL FO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D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PPORT THE GENERALIZATION ABSTR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7BB-DE98-4BA3-815B-A8F0684E57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1280" y="13608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tended Entity-Relationship (EER)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1280" y="160668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s Set-subset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s Generalization Hier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 OF THE ER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lationship may be defined between an entity type and a relationship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SECTION OF THIS Presentation ILLUSTRATES HOW THE ER MODEL CAN BE EXTENDED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Set-subset relationships and Generalization Hierarchies and how we can impose further notation on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620-9F6D-4EE5-8145-DBF0766C79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h04_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ch04_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h04_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h04_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ch04_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ample COMPANY Datab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of the Company (oversimplified for illustrative purpo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pany is organized into DEPARTMENTs. Each department has a name, number and an employee wh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nag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partment. We keep track of the start date of the departmen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r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epartmen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control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umber of PROJECT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project has a name, number and i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ted at a single l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F23-2F08-49C6-A7F1-29A2363E64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R MODELING EXERCIS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Toyota dealerships in the Atlanta area have decided to design a database that keeps a record of all cars at all dealerships.  The database will hold data for a twelve month period at a time; old data will be appropriately archived.  Each dealership has a name, dealership #, location and space (lot in square feet).  Cars are divided into new and used.  Each car has a year, make, and model.  Cars may contain options which go by option #, description, and list price.  Options are divided into manufacturer and dealer-installed options.  For new cars there is a manufacturer's invoice with a date, invoice_amount and a dealer_discount_amount.  Used cars have a purchase invoice with seller's_name, seller_address, date and amount.  When a car is sold by a salesman, a record of the sale transaction is kept with a date, amount and a remarks describing other details.  Information about salesmen includes their name, phone #, SS# and monthly sales quota for each of 12 months of the car-year (Sept-August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xercise: Draw an Extended ER diagram of the conceptual schema for this application. Supply additional attributes as need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D9D-D361-4740-8ECE-2932AE44CA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5320" y="213840"/>
            <a:ext cx="729288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Example COMPANY Database (Cont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store each EMPLOYEE’s social security number, address, salary, sex, and birthdate. Each employe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orks 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e department but ma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ork 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veral projects. We keep track of the number of hours per week that an employee currently works on each project. We also keep track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rect supervis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each employ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employee ma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number of DEPENDENTs. For each dependent, we keep track of their name, sex, birthdate, and relationship to employ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6F5-5C1F-4F0F-82D6-10F498921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2080" y="216000"/>
            <a:ext cx="7940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ER DIAGRAM FOR THE COMPANY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0" name="ch03_02_v1" descr=""/>
          <p:cNvPicPr/>
          <p:nvPr/>
        </p:nvPicPr>
        <p:blipFill>
          <a:blip r:embed="rId1"/>
          <a:stretch/>
        </p:blipFill>
        <p:spPr>
          <a:xfrm>
            <a:off x="622440" y="1247760"/>
            <a:ext cx="7940520" cy="51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765-4FA9-4240-A464-A802D860E3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3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 Model Concepts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ntities and Attribu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ties - are specific objects or things in the mini-world that are represented in the database; for example, the EMPLOYEE John Smith, the Research DEPARTMENT, the ProductX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ributes are properties used to describe an entity; for example, an EMPLOYEE entity may have a Name, SSN, Address, Sex, Birth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pecific entity will have a value for each of its attributes; for example, a specific employee entity may have Name=‘John Smith’, SSN=‘123456789’, Address=‘731 Fondren, Houston, TX’, Sex=‘M’, BirthDate=‘09-JAN-55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54D-F3C6-4900-B522-7771129E4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776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Attribu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995400"/>
            <a:ext cx="817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: Each entity has a single atomic value for the attribute; for example SSN or S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site: The attribute may be composed of several components; for example, Address (Apt#, House#, Street, City, State, ZipCode, Country) or Name(FirstName, MiddleName, LastName). Composition may form a hierarchy where some components are themselves compos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valued: An entity may have multiple values for that attribute; for example, Color of a CAR or PreviousDegrees of a STUDENT. Denoted as {Color} or {PreviousDegrees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general, composite and multi-valued attributes may be nested arbitrarily to any number of levels although this is rare. For example, PreviousDegrees of a STUDENT is a composite multi-valued attribute denoted by {PreviousDegrees(College, Year, Degree, Field)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598-997C-496C-B206-D1EA0ABF5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ntity Types and Key Attribu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39840"/>
            <a:ext cx="80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ties with the same basic attributes are grouped or typed into an entity type. For example, the EMPLOYEE entity type or the PROJECT entit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ttribute of an entity type for which each entity must have a unique value is called a key attribute of the entity type. For example, SSN of EMPLOY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ey attribute may be composite. For example, VehicleTagNumber is a key of the CAR entity type with components (Number, Sta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ntity type may have more than one key. For example, the CAR entity type may have two key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IdentificationNumber (popularly called VIN)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TagNumber (Number, State), also known as license_plate nu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6A1-90F6-412F-A7F8-D223042707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7:10:54Z</dcterms:created>
  <dc:creator>Sopan Chaudhari</dc:creator>
  <dc:description/>
  <dc:language>en-US</dc:language>
  <cp:lastModifiedBy>SHYAM</cp:lastModifiedBy>
  <cp:lastPrinted>2001-05-28T10:10:18Z</cp:lastPrinted>
  <dcterms:modified xsi:type="dcterms:W3CDTF">2002-01-23T17:50:18Z</dcterms:modified>
  <cp:revision>196</cp:revision>
  <dc:subject/>
  <dc:title>SQL Server</dc:title>
</cp:coreProperties>
</file>